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2C4-C403-45BB-8C1F-3C541876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0CC-82EF-4385-9B4E-1E740587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7F47-7E29-4015-8ACF-0B688BCA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EBA16-C5D5-429D-A392-A34FC1E9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6C6C6-C2EC-42F0-9F1D-9D6F0BF0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6DC43-8EC9-42B3-82CC-D8BE0FC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15726-3E1F-4EA7-B738-7DA0988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FBECE-C0A8-4342-82B8-84C73E3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423F5-B9FB-4F03-B26F-9BE98CBC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D0F19-CADA-4304-8E34-A3065DE8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16AC2-5CB2-411B-BE3C-01593171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D3A80-711C-48C0-950C-F4AC1F20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147-0DE2-4E54-8F95-91678E5C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A033-43AD-4380-B5DF-1FF86E0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210E6-1D48-4C86-B6F7-5CB9733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8731C-86A6-4F73-A0F5-EA7576E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BB26D-D7FB-48C0-972F-4E669D21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B7CA8-BEE2-4419-8EFA-A26E8F32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18C23-49C4-4482-8530-0A36645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FFF1F-4684-41DD-A477-00CDDA48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C7853-26FE-4B25-BDEC-4BF8F5E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9E22B-F0B2-4FF4-8556-8D9BEBCD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76D7A-C2D6-442B-AF25-F53BC175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B1A-F7F0-40C5-B516-0368A0C4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29E25-824F-4642-814D-2600BFBA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67AD4-2412-4301-989F-54BBC29C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3E233-FA51-48E8-9D24-1A14D778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209CE-DBE8-4058-8E31-1DFBD8CF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3E89-123E-43CE-8A17-76BD558E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B55C2-3DAF-4F45-8939-DD4E860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2F285-86F6-4888-89DC-E1E055A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B8A16-131B-4C64-AF9F-66E225B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227E4-02EE-4F9A-8AD8-F4E793A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16DDF-65BC-40E2-BED5-156FB72A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2DB-0EAB-4151-AFA0-2AA3770F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F4388-D2BE-4FA6-A2A9-483B831F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44B7D-28E1-4C5C-A259-557D2A1D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67023-F340-4AA5-94CD-06323D63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B68EC-CA95-4766-BF94-2FC6932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673CA-1023-4A2C-B3C7-2C5A17AE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AF4E8-2556-49D5-B6A3-2D7FD23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F33D6-73EA-4BD6-B931-E2ADFEB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A8DDB-A6B9-4A91-BA4F-9531D862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B51C2-9BB0-468D-8EB6-4E4EEDC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5E5F2-CC72-4357-9719-1037E76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F86-331E-4801-85E1-20BA71F7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6612C-D64C-4229-9333-35FE9BE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BF442-79E5-4C0B-94F1-5938371B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6A649-0969-445D-B200-95AB58B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BB5D6-2CAE-4426-BAD5-38988A76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39650-1A88-41BF-9B03-9026DA2A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2B81F-1A98-4F6E-8D96-69A3B45F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4E256-CB36-45D1-95A2-638347FD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19FBF-0563-4628-B1EA-F3534A63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065A3-CFB3-4073-865E-A1B988FF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2AFB4-B056-40A4-94CE-472BE64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0BD-9DEF-47F7-B403-EA5ACEB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F6312-4B9F-466E-9476-49BDC800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8AE4F-0743-4702-AD1F-8B820BF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7D416-AB5F-4310-AD30-318B879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6CC8C-26A3-4E04-A8C2-8CAF069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BF98E-D82C-41A9-BD28-A146D6D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6E14F-9675-418D-980F-9A02AB96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9EB1E-E152-48F1-92F4-0A91952F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BBBD6-AE54-49B5-820F-7DEDCED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40AA9-CEB5-48B6-8315-A089D5FD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E8914-69B0-4A95-B14B-4D2E8D3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50F-08B9-48C7-A27E-A9634BB9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CC28D-55A1-4CC0-AA08-EE3067F9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AA9BF-7125-4525-B20D-F62952F0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F074B-EF46-4859-80A7-A9EC71F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85CF5-8E26-49F2-9BED-25412CF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EEDE2-D7AF-48BC-B6CB-0E01FDF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89987-EF34-4F61-8BAE-ECDCD2F6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D1322-5C92-4FEB-AEE6-BCD7F0F7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4BF87-7904-43CD-859C-C4BDA516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060B9-0601-4144-B6DE-D4E1D61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02848-3576-48B4-A7A0-C3813204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B596-41E5-49E5-9DDB-5FA8FD1F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005D4-DE6F-4E92-8281-1F69F95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30B3F-DAC0-49D0-8F22-A00E28C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E8770-2E3F-4579-A57F-3D78D48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1B1CA-4EA7-4307-BA1E-7694E0D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1C7E0-97FE-4785-AEEC-8BC8A580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2ED51-54B9-4390-96D3-EFA3EF6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49C4A-E5B4-464D-9D70-FE3AC25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51A1E-20EF-44BD-B04E-7F58B25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7CD0C-9E4C-4B11-8325-5C2FC333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B7981-01CF-4ADE-8293-C349BAE4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3F92-617F-4CD8-B604-6E72593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576A5-CD5F-411B-9ED8-0DA8DE45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C32B3-0AE4-4276-907E-25990060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64050-8E9F-44C7-B02D-852BA3F1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A7A1D-629A-4140-A29D-DCEE0AE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4BD8C-FF74-4902-B4D2-5A29A798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5C8A1-B0EC-4734-902B-94C7F0C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B8B59-D4D4-423F-8AF0-9DCC45C7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6E08D-B622-4B67-AB94-891FD29E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28D5F-1C0A-46F3-859E-ABD6E5B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1A9EE-BF83-4D88-9900-CA97659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05E4-CAA2-4372-8394-E87AB5ED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73E12-0D69-4EBE-8D6B-F0BEC6D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FDD4E-796D-49B0-BB65-B885FC73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0B875-0CC8-49B3-8141-BB8C8971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8C73D-91C4-4DC7-AF0A-8A890B36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BB7B8-2AE2-4B3E-A399-D866C48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E68EA-4BB1-4973-9374-DF94866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D6556-F729-4C8D-9A77-094DD33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D5C58-1CB8-49E5-8139-65C5456B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F36ED-D227-4E23-AF8B-E720593F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21DA4-7D15-43F2-9CBC-08366E6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7D5-8C11-4A20-BCDF-6C7D8B0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EBBE-759E-499E-892B-4D58656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73ED0-F515-4788-922C-A24A1CB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CB5DF-0110-4616-96B2-A935C09E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84924-E989-4C2A-B171-33B4DDAA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553C5-F599-48E4-A8B5-186C8EF6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B286D-843C-4A90-9CCC-A01706F9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A0F93-FACA-43E4-82ED-FB250BA2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F1FAF-8C2F-4B93-9E83-2637BE7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1F081-956F-4528-9C64-CBD2FCBE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2E351-076A-4DB3-84CA-D97F082A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A503E-1DC5-4F58-954E-F1C776B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90C5-A3A1-4551-A8AE-1D0D9B94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41D51-F02A-46E6-8256-71825289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5BEED-7946-475A-BCE9-F1BFC3B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43F1B-11AC-4FDF-ADBC-C4B1822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F491B-2EAB-41FD-9E86-A3638E6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4BA96-D3C6-40CC-A2E1-C8686CBF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8D8A9-92E2-41B0-B62A-15D901D4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23A24-EC62-4447-964B-22FE9BB8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0003E-418A-4F89-B8E6-215303A0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82D2C-D6BE-4A46-A42B-B3605E1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59A05-1E7E-4546-AB39-89A5BFB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A84-70D6-4520-885C-EC71420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BC0B3-0384-4055-A7BA-826037C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C230F2-E2AD-4DA6-A8DA-F53F9AE9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59FF6-A0EC-4ABF-9859-C27D4855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AA942-3D88-4728-87C3-CCF9FD9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140E3-1B9A-4610-B4B7-0A3B70F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43BC7-93A0-4CF7-AA1D-97BD520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03D2D5-CCEE-4E6F-997C-91E43A4F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419E6-B4E5-436E-BD33-25E599EF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1F862-FCD3-43BD-8AC6-7260F331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363D9-3EAD-4F3A-B2B4-30ECAADD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97C-2DC2-4616-A498-73892360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B8540-61E0-476C-83F4-7577D28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E91B6-FCA6-4513-B403-BE0ECB03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DDDCD1-E44D-48C2-A046-A8E5CB4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E8F97-33E1-488E-807C-462469D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C04B9-84EA-4EBD-84DF-116A69D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2655C-84CA-485E-BBA8-5E6923F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1B987-DC6E-49AD-9997-DEABAA5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D25DF-3E83-481A-84A5-E738951C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BA7A9-3477-4DCF-9FD2-7EA0A569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3E4B6B-B595-470C-B71D-91EBCAC5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19D8-E0C2-49A9-BAF8-ACC50792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77B14-BB70-4B4E-981D-2DC0DAC0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E8957-8840-4FD8-84D5-D94B00A3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76084-C3C0-4DD5-B137-546FF52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1D6C1-9C5A-4163-A463-2B5CFF7B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313ED-854D-4A2C-811D-6BED42BF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7A7A3-7DD2-492C-A69F-316165B7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1C330-3469-48E1-85F4-53E3C00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57F50-4726-43FB-94AD-EEAD11A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C95D4-CAE2-40CA-BB73-8E7679D3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8B3E7-BE9D-4A3B-90D2-014E682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576E-6919-4E29-AB9A-11418EED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6F0C4-3270-479A-8716-E9F723F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D098D-9868-4CDB-B626-B88597E6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2D745-0873-42FD-AF3A-70EC81CF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807D-9433-413F-ACE7-C69A30B1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62CA-58CA-4E46-B790-6D130CED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BBA3-9A6A-4438-B5E1-39F9E0B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9B84-00A6-4AB3-A980-28F6AEE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3D1-EF9B-4FCA-8D9B-B19CC19B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9963-A0A1-4325-87A0-829E0B4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3D06-394A-4EBD-A6FC-61DAB91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B07F-732E-4F3C-9C7E-36B3B2FF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E3E0-39FE-4969-9CDF-3F7A6E8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B817-B8EF-46D7-82EB-1BA2462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032F-C9E0-4802-A9AD-8002A54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56C4-0035-4614-9936-E1E8214F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F114-5B78-4DC4-811D-D17F31E1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E111-93B8-4B6E-BE6F-1AFAB412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EF88-13E4-4E0D-925A-3611D91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D74-1FB6-4DF7-AFD4-C20699E3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E37D4-E03F-488E-A7E3-8BE0481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72BE-C28C-40DC-BE8E-BCEAC34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08AE-9050-488F-BC3C-20DD65F8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68D3-18F4-4196-96CC-6790C5A7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D255-3D31-4594-987A-5FFD421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86F4-E57E-494E-810B-9E0E7459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0277-49C3-4E38-A666-E83FD24C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8308-161A-4933-A3E2-495C5213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7771-28D4-477A-82D3-0FD3AAB0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3C9D-B167-49B1-8E83-0691C8F1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B18-2CD5-4A4C-8448-6D113ED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F5C50-BE1F-4959-91B6-E7E6E4A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388E-A7D4-4238-A3D6-CB98531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ECFE-D042-4D75-942E-5F132CF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331A-A5E4-45FA-A874-97F61D8C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7571-9944-446C-A353-9ECF80BD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1F07-BAFA-40C6-BF7D-DD8805C8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4357-F092-455D-9086-7A0B04C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41A2-BDA1-4E6E-B285-F75B81E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66C8A-5A85-44B8-AA3A-B55841AD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AACE7-6AE1-419C-88B7-6EF6D1C2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891-CDDF-4571-992D-21B02012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DC65-8488-4A4D-906A-A9B69835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5387-86AF-4DAB-B066-DF28B31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1DDB7-325E-40FF-9037-A8BC475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CF64-9C0C-42EF-84A5-2EB83501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3D30-6E54-4456-8DBC-2661CE5C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F518-7840-45EB-A4FF-6016497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8F40-DDFF-4F27-9A53-448F66C1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223B6-D011-40AF-BFFF-893527F6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3BFE-0C65-40CD-986D-5CE5BE2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66CA-E5FD-40F0-981F-A93350F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461-B160-4603-8B88-F28CB30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DD87-D1B9-42A9-9FA9-34D094D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1F928-8A89-4CC7-BEEA-DBD372B9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FAD0-CCFB-445C-A5FC-017CEB0D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AD03-33DA-4D45-B58A-40A76944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985B6-BEAD-4E54-AC93-97A0BC7A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2BF8-61E1-4ADF-B157-7E03423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CF998-8AE3-4226-B511-CBD681E4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6788-093D-49B9-9643-A5D08F41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4CF8-3BC0-4AB0-812B-B0E64F0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F6EC1-2893-456C-BA4C-9CA292C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A07-DD96-457F-93BA-4788753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0BFE-F050-4BA1-9F41-C0D35D9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0AF4-BD25-4DE4-B8CD-243D81A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A2FB9-65FA-4309-B55B-CA5FFC2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9D637-D501-410A-B482-844A31AF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37AA-20B1-4B97-8ABF-F493B7BF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A505-8225-4A9C-9EB8-B307EC9B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C0C1-9190-4A29-9F36-35A131A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7A78-7215-4E5D-9041-0DF0DDCE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EE85-336C-4FA3-BA4A-498FB6C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AFA09-CD1F-4C67-A228-2FEB7EEE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9F5-C5A7-48A2-98CA-AD31202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6A6AA-C18B-4635-BA9B-03E2DC3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1BFF-DAB6-4288-BE78-98BF165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6507-946B-4E6B-9E7F-04FE05A8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96222-0E58-4AC5-AA26-C7D5264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84213-3A55-42B1-93AC-1C89D759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3AB30-DA5F-4D66-93BB-71A22517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DB21-053D-4EE3-98E6-9D6DE8D7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65959-B99B-48E8-B37E-60CCAE7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DC2E-2588-469D-834C-D2348ED8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DE7DB-55AC-4FB5-B533-3D265B1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881-7FC4-4E95-A1B0-7ED3C3365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30EB-2294-4BEA-A674-88C8FCE60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251-C9E7-47EE-8A0F-1E77F99B9F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D336-60E3-44EE-846C-C1E56DAACC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8C94-57D5-4F55-9103-A77AD319D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640-77DE-476E-8AB5-DDD39D555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EB6-90F4-44EF-824B-99AA035A3F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AED3-A39E-4CB8-B4F1-5ECC1AAC7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64F-A0AD-4A20-AAF1-086081F0F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423-2FB3-4ADC-8165-744090F0C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46A8-B2C5-41D5-927D-2F1FAE2963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92E-17B6-4DCF-9C19-DCAA380D20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311-14FB-4CCB-B800-8557F8A0E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CC6-E79E-4682-A2B6-692D380AF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9A3-9E7B-409D-855C-1AE101D233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107-9BCB-4542-80C7-87640198C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DEB-BEED-468D-BCC6-7570CDBA0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34C-4120-48E8-8EB8-1815B7784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3DD-DBE2-499B-BD46-E9D2A69630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306-8341-4F15-AF98-2FF355E3E8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657-A70F-4003-A168-145342CA8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07ED-04AC-455C-8127-921530CB41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FBAE-C1B8-4560-91A1-51E0207BE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36D9-0DEE-42B7-937D-9C8D2CE81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28C-2575-434A-B01D-5F104B0C5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585-9FA8-47F7-A96B-6CC37739B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F0DE-2568-4A64-9B0B-F5FF28CA4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4810-F9E4-400C-9E90-0055C41F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4FE-9F92-437E-8136-FE7879611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7706-CC44-4174-9EBE-4B0A4494F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AF2-CD7E-4D21-876C-98DCFECD0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0980-46ED-4DE8-9D0A-6F82156B9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64A3-D68E-40E5-954F-B477C457F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541E-5382-48A8-93FE-80E475230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623-1FCC-4853-AEF2-A4940C3BE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4B3-6555-4DDA-9D9F-F0E2DBD6A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A547-3914-4E6F-AF5E-D186120128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30D6-80DE-48B8-BCB7-5C293B27F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56E1-DDD5-4B03-88F8-ABF3E9D08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A119-47EC-470A-9AAF-630897FA1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5760" y="2581200"/>
            <a:ext cx="87710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109440" y="1843200"/>
            <a:ext cx="8923320" cy="317160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3" descr=""/>
          <p:cNvPicPr/>
          <p:nvPr/>
        </p:nvPicPr>
        <p:blipFill>
          <a:blip r:embed="rId2"/>
          <a:stretch/>
        </p:blipFill>
        <p:spPr>
          <a:xfrm>
            <a:off x="770040" y="36655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" descr=""/>
          <p:cNvPicPr/>
          <p:nvPr/>
        </p:nvPicPr>
        <p:blipFill>
          <a:blip r:embed="rId3"/>
          <a:stretch/>
        </p:blipFill>
        <p:spPr>
          <a:xfrm>
            <a:off x="5160960" y="36655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2" descr=""/>
          <p:cNvPicPr/>
          <p:nvPr/>
        </p:nvPicPr>
        <p:blipFill>
          <a:blip r:embed="rId4"/>
          <a:stretch/>
        </p:blipFill>
        <p:spPr>
          <a:xfrm>
            <a:off x="770040" y="418320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4" descr=""/>
          <p:cNvPicPr/>
          <p:nvPr/>
        </p:nvPicPr>
        <p:blipFill>
          <a:blip r:embed="rId5"/>
          <a:stretch/>
        </p:blipFill>
        <p:spPr>
          <a:xfrm>
            <a:off x="5160960" y="4184640"/>
            <a:ext cx="480960" cy="43164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5" descr=""/>
          <p:cNvPicPr/>
          <p:nvPr/>
        </p:nvPicPr>
        <p:blipFill>
          <a:blip r:embed="rId6"/>
          <a:stretch/>
        </p:blipFill>
        <p:spPr>
          <a:xfrm>
            <a:off x="770040" y="474804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3" name="图片 1" descr=""/>
          <p:cNvPicPr/>
          <p:nvPr/>
        </p:nvPicPr>
        <p:blipFill>
          <a:blip r:embed="rId1"/>
          <a:stretch/>
        </p:blipFill>
        <p:spPr>
          <a:xfrm>
            <a:off x="519120" y="1233360"/>
            <a:ext cx="8104320" cy="439128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3" descr=""/>
          <p:cNvPicPr/>
          <p:nvPr/>
        </p:nvPicPr>
        <p:blipFill>
          <a:blip r:embed="rId2"/>
          <a:stretch/>
        </p:blipFill>
        <p:spPr>
          <a:xfrm>
            <a:off x="3564000" y="3801960"/>
            <a:ext cx="414360" cy="30024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1" descr=""/>
          <p:cNvPicPr/>
          <p:nvPr/>
        </p:nvPicPr>
        <p:blipFill>
          <a:blip r:embed="rId3"/>
          <a:stretch/>
        </p:blipFill>
        <p:spPr>
          <a:xfrm>
            <a:off x="7499520" y="3797280"/>
            <a:ext cx="422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361800" y="1309680"/>
            <a:ext cx="8420400" cy="42386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2"/>
          <a:stretch/>
        </p:blipFill>
        <p:spPr>
          <a:xfrm>
            <a:off x="1009800" y="1523880"/>
            <a:ext cx="457200" cy="25236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1" descr=""/>
          <p:cNvPicPr/>
          <p:nvPr/>
        </p:nvPicPr>
        <p:blipFill>
          <a:blip r:embed="rId3"/>
          <a:stretch/>
        </p:blipFill>
        <p:spPr>
          <a:xfrm flipH="1" rot="10800000">
            <a:off x="8072280" y="1523520"/>
            <a:ext cx="481320" cy="25236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2" descr=""/>
          <p:cNvPicPr/>
          <p:nvPr/>
        </p:nvPicPr>
        <p:blipFill>
          <a:blip r:embed="rId4"/>
          <a:stretch/>
        </p:blipFill>
        <p:spPr>
          <a:xfrm>
            <a:off x="3489480" y="3641760"/>
            <a:ext cx="47916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3214800" y="669960"/>
            <a:ext cx="2371680" cy="4572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" descr=""/>
          <p:cNvPicPr/>
          <p:nvPr/>
        </p:nvPicPr>
        <p:blipFill>
          <a:blip r:embed="rId4"/>
          <a:stretch/>
        </p:blipFill>
        <p:spPr>
          <a:xfrm>
            <a:off x="157320" y="1800360"/>
            <a:ext cx="8827920" cy="32572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866880" y="2448000"/>
            <a:ext cx="501480" cy="3636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866880" y="3056040"/>
            <a:ext cx="501480" cy="36360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866880" y="3584520"/>
            <a:ext cx="501480" cy="3636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866880" y="4089240"/>
            <a:ext cx="501480" cy="3654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" descr=""/>
          <p:cNvPicPr/>
          <p:nvPr/>
        </p:nvPicPr>
        <p:blipFill>
          <a:blip r:embed="rId9"/>
          <a:stretch/>
        </p:blipFill>
        <p:spPr>
          <a:xfrm>
            <a:off x="866880" y="4694400"/>
            <a:ext cx="50148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3" descr=""/>
          <p:cNvPicPr/>
          <p:nvPr/>
        </p:nvPicPr>
        <p:blipFill>
          <a:blip r:embed="rId1"/>
          <a:stretch/>
        </p:blipFill>
        <p:spPr>
          <a:xfrm>
            <a:off x="147600" y="1300320"/>
            <a:ext cx="8847000" cy="4257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" descr=""/>
          <p:cNvPicPr/>
          <p:nvPr/>
        </p:nvPicPr>
        <p:blipFill>
          <a:blip r:embed="rId2"/>
          <a:stretch/>
        </p:blipFill>
        <p:spPr>
          <a:xfrm>
            <a:off x="746280" y="1797120"/>
            <a:ext cx="501480" cy="36504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" descr=""/>
          <p:cNvPicPr/>
          <p:nvPr/>
        </p:nvPicPr>
        <p:blipFill>
          <a:blip r:embed="rId3"/>
          <a:stretch/>
        </p:blipFill>
        <p:spPr>
          <a:xfrm>
            <a:off x="5030640" y="1798560"/>
            <a:ext cx="500040" cy="36360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4"/>
          <a:stretch/>
        </p:blipFill>
        <p:spPr>
          <a:xfrm>
            <a:off x="746280" y="3100320"/>
            <a:ext cx="479160" cy="3477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4" descr=""/>
          <p:cNvPicPr/>
          <p:nvPr/>
        </p:nvPicPr>
        <p:blipFill>
          <a:blip r:embed="rId5"/>
          <a:stretch/>
        </p:blipFill>
        <p:spPr>
          <a:xfrm>
            <a:off x="5156280" y="3049560"/>
            <a:ext cx="374400" cy="3700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" descr=""/>
          <p:cNvPicPr/>
          <p:nvPr/>
        </p:nvPicPr>
        <p:blipFill>
          <a:blip r:embed="rId6"/>
          <a:stretch/>
        </p:blipFill>
        <p:spPr>
          <a:xfrm>
            <a:off x="746280" y="4351320"/>
            <a:ext cx="479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200240" y="1952640"/>
            <a:ext cx="6743520" cy="29527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3" descr=""/>
          <p:cNvPicPr/>
          <p:nvPr/>
        </p:nvPicPr>
        <p:blipFill>
          <a:blip r:embed="rId2"/>
          <a:stretch/>
        </p:blipFill>
        <p:spPr>
          <a:xfrm>
            <a:off x="1828800" y="2508120"/>
            <a:ext cx="480960" cy="34956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1" descr=""/>
          <p:cNvPicPr/>
          <p:nvPr/>
        </p:nvPicPr>
        <p:blipFill>
          <a:blip r:embed="rId3"/>
          <a:stretch/>
        </p:blipFill>
        <p:spPr>
          <a:xfrm>
            <a:off x="1828800" y="302112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2" descr=""/>
          <p:cNvPicPr/>
          <p:nvPr/>
        </p:nvPicPr>
        <p:blipFill>
          <a:blip r:embed="rId4"/>
          <a:stretch/>
        </p:blipFill>
        <p:spPr>
          <a:xfrm>
            <a:off x="1828800" y="3521160"/>
            <a:ext cx="480960" cy="3492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4" descr=""/>
          <p:cNvPicPr/>
          <p:nvPr/>
        </p:nvPicPr>
        <p:blipFill>
          <a:blip r:embed="rId5"/>
          <a:stretch/>
        </p:blipFill>
        <p:spPr>
          <a:xfrm>
            <a:off x="1828800" y="395280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" descr=""/>
          <p:cNvPicPr/>
          <p:nvPr/>
        </p:nvPicPr>
        <p:blipFill>
          <a:blip r:embed="rId6"/>
          <a:stretch/>
        </p:blipFill>
        <p:spPr>
          <a:xfrm>
            <a:off x="1828800" y="455760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880920" y="1962000"/>
            <a:ext cx="7382160" cy="29340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3" descr=""/>
          <p:cNvPicPr/>
          <p:nvPr/>
        </p:nvPicPr>
        <p:blipFill>
          <a:blip r:embed="rId2"/>
          <a:stretch/>
        </p:blipFill>
        <p:spPr>
          <a:xfrm>
            <a:off x="1549440" y="252108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1" descr=""/>
          <p:cNvPicPr/>
          <p:nvPr/>
        </p:nvPicPr>
        <p:blipFill>
          <a:blip r:embed="rId3"/>
          <a:stretch/>
        </p:blipFill>
        <p:spPr>
          <a:xfrm>
            <a:off x="1549440" y="29401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2" descr=""/>
          <p:cNvPicPr/>
          <p:nvPr/>
        </p:nvPicPr>
        <p:blipFill>
          <a:blip r:embed="rId4"/>
          <a:stretch/>
        </p:blipFill>
        <p:spPr>
          <a:xfrm>
            <a:off x="1549440" y="35337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4" descr=""/>
          <p:cNvPicPr/>
          <p:nvPr/>
        </p:nvPicPr>
        <p:blipFill>
          <a:blip r:embed="rId5"/>
          <a:stretch/>
        </p:blipFill>
        <p:spPr>
          <a:xfrm>
            <a:off x="1549440" y="39877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5" descr=""/>
          <p:cNvPicPr/>
          <p:nvPr/>
        </p:nvPicPr>
        <p:blipFill>
          <a:blip r:embed="rId6"/>
          <a:stretch/>
        </p:blipFill>
        <p:spPr>
          <a:xfrm>
            <a:off x="1549440" y="447660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57240" y="1422360"/>
            <a:ext cx="9031320" cy="401328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" descr=""/>
          <p:cNvPicPr/>
          <p:nvPr/>
        </p:nvPicPr>
        <p:blipFill>
          <a:blip r:embed="rId2"/>
          <a:stretch/>
        </p:blipFill>
        <p:spPr>
          <a:xfrm>
            <a:off x="1203480" y="5181480"/>
            <a:ext cx="479160" cy="34776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1" descr=""/>
          <p:cNvPicPr/>
          <p:nvPr/>
        </p:nvPicPr>
        <p:blipFill>
          <a:blip r:embed="rId3"/>
          <a:stretch/>
        </p:blipFill>
        <p:spPr>
          <a:xfrm>
            <a:off x="2995560" y="5181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2" descr=""/>
          <p:cNvPicPr/>
          <p:nvPr/>
        </p:nvPicPr>
        <p:blipFill>
          <a:blip r:embed="rId4"/>
          <a:stretch/>
        </p:blipFill>
        <p:spPr>
          <a:xfrm>
            <a:off x="4727520" y="5181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4" descr=""/>
          <p:cNvPicPr/>
          <p:nvPr/>
        </p:nvPicPr>
        <p:blipFill>
          <a:blip r:embed="rId5"/>
          <a:stretch/>
        </p:blipFill>
        <p:spPr>
          <a:xfrm>
            <a:off x="6508800" y="5181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5" descr=""/>
          <p:cNvPicPr/>
          <p:nvPr/>
        </p:nvPicPr>
        <p:blipFill>
          <a:blip r:embed="rId6"/>
          <a:stretch/>
        </p:blipFill>
        <p:spPr>
          <a:xfrm>
            <a:off x="8253360" y="518148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252360" y="1909800"/>
            <a:ext cx="8637480" cy="3038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3" descr=""/>
          <p:cNvPicPr/>
          <p:nvPr/>
        </p:nvPicPr>
        <p:blipFill>
          <a:blip r:embed="rId2"/>
          <a:stretch/>
        </p:blipFill>
        <p:spPr>
          <a:xfrm>
            <a:off x="878040" y="24145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1" descr=""/>
          <p:cNvPicPr/>
          <p:nvPr/>
        </p:nvPicPr>
        <p:blipFill>
          <a:blip r:embed="rId3"/>
          <a:stretch/>
        </p:blipFill>
        <p:spPr>
          <a:xfrm>
            <a:off x="878040" y="3003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2" descr=""/>
          <p:cNvPicPr/>
          <p:nvPr/>
        </p:nvPicPr>
        <p:blipFill>
          <a:blip r:embed="rId4"/>
          <a:stretch/>
        </p:blipFill>
        <p:spPr>
          <a:xfrm>
            <a:off x="878040" y="35337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" descr=""/>
          <p:cNvPicPr/>
          <p:nvPr/>
        </p:nvPicPr>
        <p:blipFill>
          <a:blip r:embed="rId5"/>
          <a:stretch/>
        </p:blipFill>
        <p:spPr>
          <a:xfrm>
            <a:off x="878040" y="40021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5" descr=""/>
          <p:cNvPicPr/>
          <p:nvPr/>
        </p:nvPicPr>
        <p:blipFill>
          <a:blip r:embed="rId6"/>
          <a:stretch/>
        </p:blipFill>
        <p:spPr>
          <a:xfrm>
            <a:off x="878040" y="460044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585720" y="890640"/>
            <a:ext cx="7970760" cy="558936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3" descr=""/>
          <p:cNvPicPr/>
          <p:nvPr/>
        </p:nvPicPr>
        <p:blipFill>
          <a:blip r:embed="rId2"/>
          <a:stretch/>
        </p:blipFill>
        <p:spPr>
          <a:xfrm>
            <a:off x="1176480" y="14493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1" descr=""/>
          <p:cNvPicPr/>
          <p:nvPr/>
        </p:nvPicPr>
        <p:blipFill>
          <a:blip r:embed="rId3"/>
          <a:stretch/>
        </p:blipFill>
        <p:spPr>
          <a:xfrm>
            <a:off x="1176480" y="241632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2" descr=""/>
          <p:cNvPicPr/>
          <p:nvPr/>
        </p:nvPicPr>
        <p:blipFill>
          <a:blip r:embed="rId4"/>
          <a:stretch/>
        </p:blipFill>
        <p:spPr>
          <a:xfrm>
            <a:off x="1176480" y="35193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4" descr=""/>
          <p:cNvPicPr/>
          <p:nvPr/>
        </p:nvPicPr>
        <p:blipFill>
          <a:blip r:embed="rId5"/>
          <a:stretch/>
        </p:blipFill>
        <p:spPr>
          <a:xfrm>
            <a:off x="1209600" y="4568760"/>
            <a:ext cx="479520" cy="3492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" descr=""/>
          <p:cNvPicPr/>
          <p:nvPr/>
        </p:nvPicPr>
        <p:blipFill>
          <a:blip r:embed="rId6"/>
          <a:stretch/>
        </p:blipFill>
        <p:spPr>
          <a:xfrm>
            <a:off x="1209600" y="5594400"/>
            <a:ext cx="4795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98520" y="981000"/>
            <a:ext cx="7694640" cy="45244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2" descr=""/>
          <p:cNvPicPr/>
          <p:nvPr/>
        </p:nvPicPr>
        <p:blipFill>
          <a:blip r:embed="rId2"/>
          <a:stretch/>
        </p:blipFill>
        <p:spPr>
          <a:xfrm>
            <a:off x="873000" y="5761080"/>
            <a:ext cx="8199720" cy="87624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3" descr=""/>
          <p:cNvPicPr/>
          <p:nvPr/>
        </p:nvPicPr>
        <p:blipFill>
          <a:blip r:embed="rId3"/>
          <a:stretch/>
        </p:blipFill>
        <p:spPr>
          <a:xfrm>
            <a:off x="1058760" y="156060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" descr=""/>
          <p:cNvPicPr/>
          <p:nvPr/>
        </p:nvPicPr>
        <p:blipFill>
          <a:blip r:embed="rId4"/>
          <a:stretch/>
        </p:blipFill>
        <p:spPr>
          <a:xfrm>
            <a:off x="992160" y="2533680"/>
            <a:ext cx="480960" cy="34920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2" descr=""/>
          <p:cNvPicPr/>
          <p:nvPr/>
        </p:nvPicPr>
        <p:blipFill>
          <a:blip r:embed="rId5"/>
          <a:stretch/>
        </p:blipFill>
        <p:spPr>
          <a:xfrm>
            <a:off x="1058760" y="366084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4" descr=""/>
          <p:cNvPicPr/>
          <p:nvPr/>
        </p:nvPicPr>
        <p:blipFill>
          <a:blip r:embed="rId6"/>
          <a:stretch/>
        </p:blipFill>
        <p:spPr>
          <a:xfrm>
            <a:off x="1058760" y="465300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5" descr=""/>
          <p:cNvPicPr/>
          <p:nvPr/>
        </p:nvPicPr>
        <p:blipFill>
          <a:blip r:embed="rId7"/>
          <a:stretch/>
        </p:blipFill>
        <p:spPr>
          <a:xfrm>
            <a:off x="1166760" y="5854680"/>
            <a:ext cx="4809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21:1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